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png" ContentType="image/png"/>
  <Override PartName="/ppt/media/camera.wav" ContentType="audio/x-wav"/>
  <Override PartName="/ppt/media/image10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bomb.wav" ContentType="audio/x-wav"/>
  <Override PartName="/ppt/media/image12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3.wmf" ContentType="image/x-wmf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104B-2A2F-47C9-8CD6-DAE5F235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8E9-7B72-4822-A932-2CFFA869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3BBB4-1B6B-4D09-84D5-5D78CB59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DD068-6300-4421-9630-51D358E0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42FCC-A374-4033-A8A2-1E159DF1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ED050-8967-4E17-A377-ECFFCE3D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82C83-FE64-443D-9F50-6197B0BE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3642B-C24B-44C4-BD1D-959DB4C9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17A1F-D78A-40AA-9202-56EC6210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CD98B-423C-4690-9DB2-C4BC154F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2CCBA-9C1C-4DC3-B408-93B51646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F89AD-A4DA-4875-A964-5F86885E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2FFA-644A-481E-81F7-9DF91A69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D7C24-5705-4D46-823C-694B946F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1B39A-5B27-4296-9DCB-97C133DF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7E747-A474-43C2-8245-9DFD1EDA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92B43-8C25-431D-B1A3-9BE56C12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DDD06-78B0-4ED7-BED4-BEE410E7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0D80F-44E9-49AB-BEE8-A9E1BDF2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9F771-3322-4454-835F-55CD053D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97065-F8C9-4C3D-BF82-2C37EBA0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50E8D-E41B-4101-B516-5DE38EAB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1EA72-5B2B-4810-8BC6-E674C371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49C8-ABDB-4056-9BC1-9062C316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5D0A3-93B4-4E01-94DA-5537D263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B4D88-8B8D-4872-A2DC-39D78B0A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5B3BC-7653-4D4E-AE56-73FEFAFC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04259-BDEF-4E7D-A981-0EB287D9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35682-2782-4139-A4BF-5C160202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519C9-8575-48A6-8CF0-09AD3875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58577-9A13-4107-80F5-27A24FE5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B480A-FB4F-454C-BDEB-4B27F3CB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89E20-913B-4077-981A-84251DAE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53BBE-F45C-4FE8-AAE0-4D79997A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52B7-60E6-4971-8E05-AF5747FC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8F759-5E99-4B3B-9AA2-BBBA1B22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5A52A-2543-46F4-89EB-2D53A094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93963-E98D-4628-A1BE-51C90601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60405-369C-4451-A87E-BBC55E4A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C0F95-05CC-4248-8705-40D773AE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4F93A-704C-4CA5-BF23-6D9C07FB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9E117-CABD-42C6-A836-661754C4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5411C-1348-43A2-88D5-C74DCD6C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F830A-CFB7-43E8-886C-AF1F69A2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82DEC-2160-41EB-9448-2ACDBCAB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8098-AAAC-4EC0-9FC7-DC3FF806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0B181-8830-4D0E-BAA2-0FBBCB03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9465C-64D2-4A7D-B0A8-90E75C6E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9F1C1-9C77-47C3-8533-431E8BB2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614FC-5E38-4ABF-AA2C-FBE443BD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CF257-F49C-4216-B5D4-CE941F54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B5DDA-0FE6-4B14-8220-DBCEEA7F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FBE5B-E63B-4E07-A0CB-4B393C67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1FD6C-A455-4F6E-9F28-CD75CD00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43F5B5-09B4-4803-ACB8-9A0D2344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181DAE-F328-4EB4-B8B7-6491D927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71E2-C0B0-40C0-9152-3A1C7D23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2F388E-D809-4A3A-ACFD-9A38F63B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F0A87-6188-415C-ACD1-CCD25928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F78DD-9FB4-4516-98FC-AD241A0C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5BD0F-2AC5-4224-985E-A677794D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340D4-B3F6-41B7-8C0D-55AED6E1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4E1663-D0A8-4C8C-A747-3413C9F1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F041B-567E-45EB-9BA4-1D42DC38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C5338C-13C9-4B4C-8775-17A6268C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5083C0-B24C-408E-9A25-BE1C66FF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675FB-3A7D-47ED-BEA7-82686CBE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2EB2-33BE-4A54-84CF-BBBDA2ED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BC1BCE-B32F-4610-8FAD-D0666BDC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A4AF42-EFE3-4C3E-96BB-A37C1B4F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C5BCEA-C626-4D8C-B2F7-01BCF682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575C1A-105B-4A18-988E-DBADF315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B2E72-9FE9-4FEF-AACF-B9668E67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37844B-4C05-4E08-BC36-43E36A20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FBDD7-6C99-4979-89B5-96A2FD8B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103059-71E5-4114-B023-17A3CC94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6DC4CB-ED3B-4F91-AFA4-C2A09FCA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F6122E-9CD4-41E6-82F4-3F25B99C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DCA4-BF9F-41FC-80F4-7448A81D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82A034-A752-49B1-B4DC-6BA0A97C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2EB0EB-6E89-472F-B27C-BAB970CA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45ACD2-1D9C-42D2-9B6C-6F1DB2FF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4F425F-44B6-464A-A1BD-955BDCC9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D69126-41F3-4B3E-9438-FD998C6D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2EA927-DEB8-4CC9-BB13-20AA420C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A54975-730E-4FB4-8823-646EEC89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609424-CCB6-4913-8C18-A57B4DC6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200054-81C4-43C1-B04E-A276D84F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59B881-8044-4C97-BE9C-7FCA2B5F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3144-7D0A-4325-B0F3-1DAD9CB4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362BFC-42D7-4453-A95A-801FD705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8730-3262-4CEA-9C6C-4DE7FD04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699-A416-4227-BC30-7D3BA8D2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CBC8-D467-4B90-B068-2B393B06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41DB-E823-4009-81C5-C33B2356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B916-7105-4100-B952-B1E27232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51A6-11BF-4BA4-8743-345028B8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8A0A-6483-411F-8046-EE9ACDE5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11CA5-94D6-49D1-B75C-AE74AEFB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65716-2528-4F7F-BA78-0730BB2A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E949E-BD9E-4E67-99F2-FB298418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774F2-4117-4BA7-88D5-ECAC799F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CE46B-E7DF-4BBC-8E0F-3E47105D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29B-A735-43D3-9233-D09CA46B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98E2D-CE44-4B39-AA48-E2D63856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060B-F558-45C2-A21F-5D22DDB6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D1958-9209-4F7D-93E9-305120F3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63AB2-2B7F-497F-9BF7-9549EA12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59D53-2485-45D7-AEA6-FB74ECCD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3FE9C-5EEE-458F-95C0-3944FE36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81F01-738E-49FE-A97D-584F0618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9F792-1854-4EE6-B029-9F711516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F9F66-D1F8-4A86-BBF3-D8FD66EA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0F6F7-2936-4D0D-9F3E-C8A2C6B0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69B-8D0D-430D-AA3C-1BD6781F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8A56C-BE17-4F49-9FCF-18F629C2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0FE3A-BEB9-439D-8A12-04173746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836F5-DB50-462B-8433-0F7CF882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FB443-65D4-4F37-9DCC-C9D8A7D3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FEA39-27EB-4DB5-A317-0678F060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045C3-3CA7-46C7-BD02-5949E6C6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C0DB7-965E-43DE-BDA1-4CF3B878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45A86-8768-4915-BCDF-9A289F32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F9B38-2F20-421A-AB27-6A01D392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2FBDB-2E18-45C1-9D7E-C60DF422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949-D48D-4DE0-9263-26B73606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85326-FF84-4A72-9070-7D0F761D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FD9E8-4E46-445B-A41A-D04A0978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67177-D0DF-45A7-9CD7-0220DB9E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785D5-F213-470D-A36D-9DB959A9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3F70E-4ED9-4859-82DD-FC856AF4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3CF28-0F8F-47A2-AF98-AEC97AB3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5EDB2-5634-4B12-A744-4E57A3BB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D20FF-20AE-4DDB-8353-D1ED10C9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B62AF-D0AA-4B5E-88F9-81291C20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18236-D36D-4EEC-981A-F46C0BB8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0FB0-2970-4051-AC96-286373E6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4472E-5344-401D-A0AC-F3C3E290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366D4-CF0F-4E12-89F4-3DAAF742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521EB-315E-4AA7-B682-F96C03C1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E633D-9A3C-4FF7-BD80-7EA9B35B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FB95B-2125-4731-9346-6CEB9D7B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60F1E-6B37-4F9A-A809-5DB6AF8B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35957-3D49-405C-A5A9-97F603E7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E95B3-BDF1-4BEC-8F2B-2BF663E2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733D3-E4D5-43B1-9AD5-83794C27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E0FEE-59E8-4D47-B588-EF4EFAB8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52F-F727-43FA-B4E5-E8D3B1D0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AB95E-5403-4765-BA44-967F8F7B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20084-54AE-4C3D-9129-6E3AE626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976CF-9618-47B2-B116-F640E92A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DF6D8-0430-4E6A-B7DC-D35619EC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4A885-599E-47B5-88FD-120C8F4C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4D1B1-C405-4631-88C9-764415C8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B007A-8596-4D0C-AE6F-17CC7571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60099-2007-490C-8459-AEB8A7B4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BFC23-7111-42D6-9545-72EF5470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3DAE0-AF0A-4FEC-A96A-92C1398D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6C6-2E77-4932-809B-959C6CAD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D3854-CEDF-462B-A86E-03893F4E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CEC62-33D8-4FC3-ADE6-D70CB02F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60859-47C7-4E3B-B24F-03659B41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B5509-3899-4FFD-9FFF-C9C80657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670A9-1130-49BB-AF47-049DFA77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F662D-506E-411E-9E86-5BA5C464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B034A-D103-43DB-8EEF-BBCFCB97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B7C07-87B5-4434-A793-83EDFC41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DA80F-3057-4D4D-8A99-3346F551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C8C2F-DCA8-4924-9D22-35C1CE3C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B670-0B96-4E97-99EF-3A2BCF78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3A0AD-D791-4E2E-B8F1-B47F0CC7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9DF7D-BEF7-4169-ADAF-AFA0CDD5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D9165-B958-4502-A770-5EBB994C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A3250-D69A-4F95-96CD-E6DFD324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A22E9-20A8-4920-896E-3B28712F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77C48-BDBB-43CC-BF3E-54B2B5FC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05C8A-9088-49F0-9800-C122313F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5E4CE-AED1-4AB6-A7F0-83CC1436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66F29-F538-412D-A1E7-E04CAAC1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C5230-E302-483E-A4D8-782103C9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9F86-07A1-4315-A134-FD9C1F1BE4F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6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6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3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EF7A-3AEB-4F97-B5C2-36EEDC182C7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710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11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714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71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1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719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720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2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723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5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726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2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732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35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738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741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744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747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750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753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756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759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762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765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76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771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774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777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780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2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4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785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7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788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0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91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3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794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797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9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800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803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806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809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812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15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17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818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819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6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7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828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9F78-31F0-49E2-A323-42BDB524C6E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84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5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86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1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12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7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28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0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31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0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A65C-1658-4ECD-801F-9C47C98DD3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99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90C5-082F-477A-893F-28C9662930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DD32-08B8-41D3-A2D0-671592F590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0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11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118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12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7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57CC-1185-464C-8A85-F71A34D999F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A8B5-0E39-46C3-86C5-513317E77E6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9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0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06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07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1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1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1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19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22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25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28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31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34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37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40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43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4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4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52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5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5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61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6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67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72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7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7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81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84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8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9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93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9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99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02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C6F7-D0AE-4F10-B33F-FDA1A92B8B3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68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70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6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12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15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0AF3-9A33-4A12-8A2A-0B267C419F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F59E-672A-41CF-A6FA-1978B69A1D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8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D2D1-B02C-4B47-B180-2F16AE586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8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1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CAC4-3D25-49DB-B3E6-13C11AAF5B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E697-3BC4-492B-8DB1-93CA16CED6E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4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5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5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5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6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571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57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3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57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3166-C69F-46CA-98ED-880D03DB7C9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njuguemos.com/spanish/index.html" TargetMode="External"/><Relationship Id="rId2" Type="http://schemas.openxmlformats.org/officeDocument/2006/relationships/hyperlink" Target="http://www.spaleon.com/sub_pres.php" TargetMode="External"/><Relationship Id="rId3" Type="http://schemas.openxmlformats.org/officeDocument/2006/relationships/hyperlink" Target="http://www.uvm.edu/%7Eivaleria/presente_de_subjuntivo.htm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spaleon.com/sub_pres.php?ids=3,6,9,11,18,24,53,42,46,50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SUBJUNTIVO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                  (presente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ndy"/>
              </a:rPr>
              <a:t>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ndy"/>
              </a:rPr>
              <a:t>Cómo conjugarlo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72" name="Picture 4" descr="Niko2"/>
          <p:cNvPicPr/>
          <p:nvPr/>
        </p:nvPicPr>
        <p:blipFill>
          <a:blip r:embed="rId2"/>
          <a:stretch/>
        </p:blipFill>
        <p:spPr>
          <a:xfrm>
            <a:off x="1332000" y="3141720"/>
            <a:ext cx="2212920" cy="166032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3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5438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ndy"/>
              </a:rPr>
              <a:t>VERBOS </a:t>
            </a:r>
            <a:r>
              <a:rPr b="0" lang="es-ES_tradnl" sz="3200" spc="-1" strike="noStrike">
                <a:solidFill>
                  <a:srgbClr val="cc0000"/>
                </a:solidFill>
                <a:latin typeface="Andy"/>
              </a:rPr>
              <a:t>AR</a:t>
            </a:r>
            <a:r>
              <a:rPr b="0" lang="es-ES_tradnl" sz="3200" spc="-1" strike="noStrike">
                <a:solidFill>
                  <a:srgbClr val="ccecff"/>
                </a:solidFill>
                <a:latin typeface="Andy"/>
              </a:rPr>
              <a:t> y </a:t>
            </a:r>
            <a:r>
              <a:rPr b="0" lang="es-ES_tradnl" sz="3200" spc="-1" strike="noStrike">
                <a:solidFill>
                  <a:srgbClr val="cc0000"/>
                </a:solidFill>
                <a:latin typeface="Andy"/>
              </a:rPr>
              <a:t>ER </a:t>
            </a:r>
            <a:r>
              <a:rPr b="0" lang="es-ES_tradnl" sz="3200" spc="-1" strike="noStrike">
                <a:solidFill>
                  <a:srgbClr val="ccecff"/>
                </a:solidFill>
                <a:latin typeface="Andy"/>
              </a:rPr>
              <a:t>CON CAMBIOS EN LA RAÍZ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7386480" cy="13683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Los verbos que en presente de indicativo cambian: la </a:t>
            </a:r>
            <a:r>
              <a:rPr b="1" i="1" lang="es-ES_tradnl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ffff00"/>
                </a:solidFill>
                <a:latin typeface="Arial"/>
              </a:rPr>
              <a:t>IE</a:t>
            </a:r>
            <a:r>
              <a:rPr b="1" i="1" lang="es-ES_tradnl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(p</a:t>
            </a:r>
            <a:r>
              <a:rPr b="1" i="1" lang="es-ES_tradnl" sz="20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nsar, emp</a:t>
            </a:r>
            <a:r>
              <a:rPr b="1" i="1" lang="es-ES_tradnl" sz="20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zar, com</a:t>
            </a:r>
            <a:r>
              <a:rPr b="1" i="1" lang="es-ES_tradnl" sz="20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nzar, n</a:t>
            </a:r>
            <a:r>
              <a:rPr b="1" i="1" lang="es-ES_tradnl" sz="20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var, c</a:t>
            </a:r>
            <a:r>
              <a:rPr b="1" i="1" lang="es-ES_tradnl" sz="20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rrar, desp</a:t>
            </a:r>
            <a:r>
              <a:rPr b="1" i="1" lang="es-ES_tradnl" sz="20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rtar, n</a:t>
            </a:r>
            <a:r>
              <a:rPr b="1" i="1" lang="es-ES_tradnl" sz="20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gar, conf</a:t>
            </a:r>
            <a:r>
              <a:rPr b="1" i="1" lang="es-ES_tradnl" sz="20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sar, s</a:t>
            </a:r>
            <a:r>
              <a:rPr b="1" i="1" lang="es-ES_tradnl" sz="20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ntarse, perder, entender, encender, defender,querer,etc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1" name="Text Box 4"/>
          <p:cNvSpPr/>
          <p:nvPr/>
        </p:nvSpPr>
        <p:spPr>
          <a:xfrm>
            <a:off x="2627280" y="2781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AMBOS TIEMPOS CAMBIAN LA RAÍZ EN TODAS LAS CONJUGACIONES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XCEPTO LAS DE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NOSOTROS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Y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VOSO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5"/>
          <p:cNvSpPr/>
          <p:nvPr/>
        </p:nvSpPr>
        <p:spPr>
          <a:xfrm>
            <a:off x="4572000" y="4005360"/>
            <a:ext cx="0" cy="576000"/>
          </a:xfrm>
          <a:prstGeom prst="line">
            <a:avLst/>
          </a:prstGeom>
          <a:ln w="38160">
            <a:solidFill>
              <a:srgbClr val="eaeaea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2916360" y="4581360"/>
            <a:ext cx="4824360" cy="1894320"/>
          </a:xfrm>
          <a:prstGeom prst="rect">
            <a:avLst/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ndy"/>
              </a:rPr>
              <a:t>PRESENTE DE INDICATIVO:</a:t>
            </a:r>
            <a:r>
              <a:rPr b="0" lang="es-ES_tradnl" sz="1800" spc="-1" strike="noStrike">
                <a:solidFill>
                  <a:srgbClr val="000000"/>
                </a:solidFill>
                <a:latin typeface="And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ndy"/>
              </a:rPr>
              <a:t>YO P</a:t>
            </a:r>
            <a:r>
              <a:rPr b="1" i="1" lang="es-ES_tradnl" sz="1800" spc="-1" strike="noStrike">
                <a:solidFill>
                  <a:srgbClr val="ffff00"/>
                </a:solidFill>
                <a:latin typeface="Andy"/>
              </a:rPr>
              <a:t>IE</a:t>
            </a:r>
            <a:r>
              <a:rPr b="0" lang="es-ES_tradnl" sz="1800" spc="-1" strike="noStrike">
                <a:solidFill>
                  <a:srgbClr val="000000"/>
                </a:solidFill>
                <a:latin typeface="Andy"/>
              </a:rPr>
              <a:t>NSO, NOSOTROS P</a:t>
            </a:r>
            <a:r>
              <a:rPr b="1" i="1" lang="es-ES_tradnl" sz="1800" spc="-1" strike="noStrike">
                <a:solidFill>
                  <a:srgbClr val="ffff00"/>
                </a:solidFill>
                <a:latin typeface="Andy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Andy"/>
              </a:rPr>
              <a:t>NS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ndy"/>
              </a:rPr>
              <a:t>PRESENTE DE SUBJUNTIV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ndy"/>
              </a:rPr>
              <a:t>QUE YO P</a:t>
            </a:r>
            <a:r>
              <a:rPr b="1" i="1" lang="es-ES_tradnl" sz="1800" spc="-1" strike="noStrike">
                <a:solidFill>
                  <a:srgbClr val="ffff00"/>
                </a:solidFill>
                <a:latin typeface="Andy"/>
              </a:rPr>
              <a:t>IE</a:t>
            </a:r>
            <a:r>
              <a:rPr b="0" lang="es-ES_tradnl" sz="1800" spc="-1" strike="noStrike">
                <a:solidFill>
                  <a:srgbClr val="000000"/>
                </a:solidFill>
                <a:latin typeface="Andy"/>
              </a:rPr>
              <a:t>NSE, QUE NOSOTROS P</a:t>
            </a:r>
            <a:r>
              <a:rPr b="1" i="1" lang="es-ES_tradnl" sz="1800" spc="-1" strike="noStrike">
                <a:solidFill>
                  <a:srgbClr val="ffff00"/>
                </a:solidFill>
                <a:latin typeface="Andy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Andy"/>
              </a:rPr>
              <a:t>NSE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ecff"/>
                </a:solidFill>
                <a:latin typeface="Arial"/>
              </a:rPr>
              <a:t>Los verbos que cambian  E a I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jemplos: pedir, seguir, reír, servir, repetir, impedir, competir, despedirse, elegir, corregir, vestirse, medir, etc. (Todos terminan en </a:t>
            </a:r>
            <a:r>
              <a:rPr b="0" i="1" lang="es-ES_tradnl" sz="3200" spc="-1" strike="noStrike">
                <a:solidFill>
                  <a:srgbClr val="eaeaea"/>
                </a:solidFill>
                <a:latin typeface="Arial"/>
              </a:rPr>
              <a:t>ir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6" name="Text Box 5"/>
          <p:cNvSpPr/>
          <p:nvPr/>
        </p:nvSpPr>
        <p:spPr>
          <a:xfrm>
            <a:off x="900000" y="4365720"/>
            <a:ext cx="6985080" cy="18828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nservan el cambio en TODAS las conjugac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QUE YO PIDA, QUE NOSOTROS PIDAMOS, QUE YO RÍA, QUE VOSOTROS RÍAI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5" dur="2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476360" y="2060280"/>
            <a:ext cx="5400720" cy="208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entury Gothic"/>
              </a:rPr>
              <a:t>(ejemplos: contar, mostrar, rogar, volar, encontrar, probar, recomendar, recordar, acordarse, almorzar, costar, acostarse soñar, jugar, volver, mover, poder, soler, llover, doler, morder, resolver, etc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476360" y="549360"/>
            <a:ext cx="5400720" cy="17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Los verbos que cambian O a UE, y que terminan en AR o en ER, cambian en todas las personas excepto NOSOTROS y VOSOTROS</a:t>
            </a:r>
            <a:r>
              <a:rPr b="0" lang="es-ES_tradnl" sz="2000" spc="-1" strike="noStrike">
                <a:solidFill>
                  <a:srgbClr val="ffcc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9" name="Text Box 10"/>
          <p:cNvSpPr/>
          <p:nvPr/>
        </p:nvSpPr>
        <p:spPr>
          <a:xfrm>
            <a:off x="1476360" y="4149720"/>
            <a:ext cx="5400720" cy="120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Que yo v</a:t>
            </a:r>
            <a:r>
              <a:rPr b="1" i="1" lang="es-ES_tradnl" sz="1800" spc="-1" strike="noStrike">
                <a:solidFill>
                  <a:srgbClr val="000000"/>
                </a:solidFill>
                <a:latin typeface="Century Gothic"/>
              </a:rPr>
              <a:t>ue</a:t>
            </a: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va, que tú v</a:t>
            </a:r>
            <a:r>
              <a:rPr b="1" i="1" lang="es-ES_tradnl" sz="1800" spc="-1" strike="noStrike">
                <a:solidFill>
                  <a:srgbClr val="000000"/>
                </a:solidFill>
                <a:latin typeface="Century Gothic"/>
              </a:rPr>
              <a:t>ue</a:t>
            </a: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vas, que él v</a:t>
            </a:r>
            <a:r>
              <a:rPr b="1" i="1" lang="es-ES_tradnl" sz="1800" spc="-1" strike="noStrike">
                <a:solidFill>
                  <a:srgbClr val="000000"/>
                </a:solidFill>
                <a:latin typeface="Century Gothic"/>
              </a:rPr>
              <a:t>ue</a:t>
            </a: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Que nosotros v</a:t>
            </a:r>
            <a:r>
              <a:rPr b="1" i="1" lang="es-ES_tradnl" sz="1800" spc="-1" strike="noStrike">
                <a:solidFill>
                  <a:srgbClr val="000000"/>
                </a:solidFill>
                <a:latin typeface="Century Gothic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vamos, que vosotros v</a:t>
            </a:r>
            <a:r>
              <a:rPr b="1" i="1" lang="es-ES_tradnl" sz="1800" spc="-1" strike="noStrike">
                <a:solidFill>
                  <a:srgbClr val="000000"/>
                </a:solidFill>
                <a:latin typeface="Century Gothic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vái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Que ellos v</a:t>
            </a:r>
            <a:r>
              <a:rPr b="1" i="1" lang="es-ES_tradnl" sz="1800" spc="-1" strike="noStrike">
                <a:solidFill>
                  <a:srgbClr val="000000"/>
                </a:solidFill>
                <a:latin typeface="Century Gothic"/>
              </a:rPr>
              <a:t>ue</a:t>
            </a: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va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11"/>
          <p:cNvSpPr/>
          <p:nvPr/>
        </p:nvSpPr>
        <p:spPr>
          <a:xfrm>
            <a:off x="2484360" y="1844640"/>
            <a:ext cx="0" cy="23050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1" name="Picture 12" descr="j0119823[1]"/>
          <p:cNvPicPr/>
          <p:nvPr/>
        </p:nvPicPr>
        <p:blipFill>
          <a:blip r:embed="rId2"/>
          <a:stretch/>
        </p:blipFill>
        <p:spPr>
          <a:xfrm>
            <a:off x="0" y="3552840"/>
            <a:ext cx="16160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animMotion origin="layout" path="M 1.94444E-006 -2.89017E-007 C 0.0342 0.0326 0.12969 0.16162 0.20521 0.19514 C 0.28073 0.22867 0.38715 0.20162 0.45278 0.20162 C 0.51875 0.20162 0.55035 0.20578 0.60052 0.19514 C 0.65069 0.18451 0.71562 0.16532 0.75451 0.13827 C 0.7934 0.11121 0.81493 0.07584 0.83385 0.03237 C 0.85278 -0.0111 0.87083 -0.07191 0.8684 -0.12254 C 0.86597 -0.17318 0.82986 -0.24069 0.81962 -0.27191 E">
                                      <p:cBhvr>
                                        <p:cTn id="61" dur="2000" fill="hold"/>
                                        <p:tgtEl>
                                          <p:spTgt spid="1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0100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os verbos que terminan en </a:t>
            </a: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I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395280" y="3573360"/>
            <a:ext cx="8229600" cy="21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4141"/>
                </a:solidFill>
                <a:latin typeface="Arial"/>
              </a:rPr>
              <a:t>Tienen dos cambi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, tú, él y ellos: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ambia 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que yo pref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), y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ambia 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u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que yo d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u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sotros y vosotros: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ambia 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que nosotros pref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mos), y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a 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que nosotros m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4" name=""/>
          <p:cNvGraphicFramePr/>
          <p:nvPr/>
        </p:nvGraphicFramePr>
        <p:xfrm>
          <a:off x="3419640" y="1557360"/>
          <a:ext cx="3752640" cy="1952640"/>
        </p:xfrm>
        <a:graphic>
          <a:graphicData uri="http://schemas.openxmlformats.org/drawingml/2006/table">
            <a:tbl>
              <a:tblPr/>
              <a:tblGrid>
                <a:gridCol w="1877760"/>
                <a:gridCol w="187488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…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… 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erir, sentir, et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ir, dor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5" name="Picture 21" descr="HM00453_[1]"/>
          <p:cNvPicPr/>
          <p:nvPr/>
        </p:nvPicPr>
        <p:blipFill>
          <a:blip r:embed="rId1"/>
          <a:stretch/>
        </p:blipFill>
        <p:spPr>
          <a:xfrm>
            <a:off x="1908000" y="1197000"/>
            <a:ext cx="1213200" cy="1243080"/>
          </a:xfrm>
          <a:prstGeom prst="rect">
            <a:avLst/>
          </a:prstGeom>
          <a:ln w="0">
            <a:noFill/>
          </a:ln>
        </p:spPr>
      </p:pic>
      <p:sp>
        <p:nvSpPr>
          <p:cNvPr id="1226" name="Line 25"/>
          <p:cNvSpPr/>
          <p:nvPr/>
        </p:nvSpPr>
        <p:spPr>
          <a:xfrm>
            <a:off x="2411280" y="2565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3898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RESUMIENDO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4141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Verbos que terminan en AR y en ER tienen cambios similares en presente de indicativo y en presente de subjuntiv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Verbos que terminan en IR tienen un cambio extra para nosotros y vosotros (la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cambia a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cambia a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) además del cambio usual en las otras person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80" dur="2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000080"/>
          </a:solidFill>
          <a:ln w="9360">
            <a:solidFill>
              <a:srgbClr val="eaeaea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6699"/>
                </a:solidFill>
                <a:latin typeface="Arial"/>
              </a:rPr>
              <a:t>Verbos irregulares en presente de subjuntivo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4547a"/>
                </a:solidFill>
                <a:latin typeface="Arial"/>
              </a:rPr>
              <a:t>DAR (dé, des, dé, demos, deis, de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4547a"/>
                </a:solidFill>
                <a:latin typeface="Arial"/>
              </a:rPr>
              <a:t>ESTAR (esté, estés, esté, estemos, estéis, esté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4547a"/>
                </a:solidFill>
                <a:latin typeface="Arial"/>
              </a:rPr>
              <a:t>IR (vaya, vayas, vaya, vayamos, vayáis, vaya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4547a"/>
                </a:solidFill>
                <a:latin typeface="Arial"/>
              </a:rPr>
              <a:t>SABER (sepa, sepas, sepa, sepamos, sepáis, sepa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4547a"/>
                </a:solidFill>
                <a:latin typeface="Arial"/>
              </a:rPr>
              <a:t>SER (sea, seas, sea, seamos, seáis, sea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Text Box 4"/>
          <p:cNvSpPr/>
          <p:nvPr/>
        </p:nvSpPr>
        <p:spPr>
          <a:xfrm>
            <a:off x="2268360" y="765000"/>
            <a:ext cx="5616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actica con los siguientes enla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http://conjuguemos.com/spanish/index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# 13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http://www.spaleon.com/sub_pres.ph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asic verbs and irregular ver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http://www.uvm.edu/%7Eivaleria/presente_de_subjuntiv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  </a:t>
            </a: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I) Usamos la conjugación de </a:t>
            </a:r>
            <a:r>
              <a:rPr b="0" lang="es-ES_tradnl" sz="3800" spc="-1" strike="noStrike">
                <a:solidFill>
                  <a:srgbClr val="3b812f"/>
                </a:solidFill>
                <a:latin typeface="Andy"/>
              </a:rPr>
              <a:t>YO</a:t>
            </a: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 en </a:t>
            </a:r>
            <a:r>
              <a:rPr b="0" lang="es-ES_tradnl" sz="3800" spc="-1" strike="noStrike">
                <a:solidFill>
                  <a:srgbClr val="3b812f"/>
                </a:solidFill>
                <a:latin typeface="Andy"/>
              </a:rPr>
              <a:t>PRESENTE DE INDICATIVO</a:t>
            </a: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 </a:t>
            </a:r>
            <a:r>
              <a:rPr b="0" i="1" lang="es-ES_tradnl" sz="3800" spc="-1" strike="noStrike">
                <a:solidFill>
                  <a:srgbClr val="0000ff"/>
                </a:solidFill>
                <a:latin typeface="Andy"/>
              </a:rPr>
              <a:t>menos la </a:t>
            </a:r>
            <a:r>
              <a:rPr b="1" i="1" lang="es-ES_tradnl" sz="3800" spc="-1" strike="noStrike">
                <a:solidFill>
                  <a:srgbClr val="0000ff"/>
                </a:solidFill>
                <a:latin typeface="Andy"/>
              </a:rPr>
              <a:t>o </a:t>
            </a:r>
            <a:r>
              <a:rPr b="0" i="1" lang="es-ES_tradnl" sz="3800" spc="-1" strike="noStrike">
                <a:solidFill>
                  <a:srgbClr val="0000ff"/>
                </a:solidFill>
                <a:latin typeface="Andy"/>
              </a:rPr>
              <a:t>final de la conjugación</a:t>
            </a:r>
            <a:r>
              <a:rPr b="0" i="1" lang="es-ES_tradnl" sz="3800" spc="-1" strike="noStrike">
                <a:solidFill>
                  <a:srgbClr val="ffff00"/>
                </a:solidFill>
                <a:latin typeface="Andy"/>
              </a:rPr>
              <a:t> </a:t>
            </a: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como RAÍZ para todas las conjugaciones</a:t>
            </a:r>
            <a:br>
              <a:rPr sz="3800"/>
            </a:br>
            <a:br>
              <a:rPr sz="3800"/>
            </a:b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jugar: </a:t>
            </a:r>
            <a:r>
              <a:rPr b="0" i="1" lang="es-ES_tradnl" sz="3800" spc="-1" strike="noStrike">
                <a:solidFill>
                  <a:srgbClr val="cc0000"/>
                </a:solidFill>
                <a:latin typeface="Andy"/>
              </a:rPr>
              <a:t>yo jueg   </a:t>
            </a: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....... JUEG</a:t>
            </a:r>
            <a:r>
              <a:rPr b="0" i="1" lang="es-ES_tradnl" sz="3800" spc="-1" strike="noStrike">
                <a:solidFill>
                  <a:srgbClr val="cc0000"/>
                </a:solidFill>
                <a:latin typeface="Andy"/>
              </a:rPr>
              <a:t>	</a:t>
            </a:r>
            <a:r>
              <a:rPr b="0" i="1" lang="es-ES_tradnl" sz="3800" spc="-1" strike="noStrike">
                <a:solidFill>
                  <a:srgbClr val="cc0000"/>
                </a:solidFill>
                <a:latin typeface="Andy"/>
              </a:rPr>
              <a:t>	</a:t>
            </a:r>
            <a:br>
              <a:rPr sz="3800"/>
            </a:b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tener: </a:t>
            </a:r>
            <a:r>
              <a:rPr b="0" i="1" lang="es-ES_tradnl" sz="3800" spc="-1" strike="noStrike">
                <a:solidFill>
                  <a:srgbClr val="cc0000"/>
                </a:solidFill>
                <a:latin typeface="Andy"/>
              </a:rPr>
              <a:t>yo teng  ……… TENG</a:t>
            </a:r>
            <a:br>
              <a:rPr sz="3800"/>
            </a:b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querer: </a:t>
            </a:r>
            <a:r>
              <a:rPr b="0" i="1" lang="es-ES_tradnl" sz="3800" spc="-1" strike="noStrike">
                <a:solidFill>
                  <a:srgbClr val="cc0000"/>
                </a:solidFill>
                <a:latin typeface="Andy"/>
              </a:rPr>
              <a:t>yo quier   ……  QUIER</a:t>
            </a:r>
            <a:br>
              <a:rPr sz="3800"/>
            </a:b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	</a:t>
            </a: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	</a:t>
            </a: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etc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4" name="Line 8"/>
          <p:cNvSpPr/>
          <p:nvPr/>
        </p:nvSpPr>
        <p:spPr>
          <a:xfrm flipH="1">
            <a:off x="6443280" y="2133720"/>
            <a:ext cx="792360" cy="16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9"/>
          <p:cNvSpPr/>
          <p:nvPr/>
        </p:nvSpPr>
        <p:spPr>
          <a:xfrm>
            <a:off x="4211640" y="43657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ndy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11"/>
          <p:cNvSpPr/>
          <p:nvPr/>
        </p:nvSpPr>
        <p:spPr>
          <a:xfrm>
            <a:off x="4643280" y="486900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ndy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12"/>
          <p:cNvSpPr/>
          <p:nvPr/>
        </p:nvSpPr>
        <p:spPr>
          <a:xfrm>
            <a:off x="4067280" y="3789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ndy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0" autoRev="1" fill="hold"/>
                                        <p:tgtEl>
                                          <p:spTgt spid="1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00364 0.43121 E">
                                      <p:cBhvr>
                                        <p:cTn id="18" dur="20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48555E-006 L -1.38889E-006 0.38821 E">
                                      <p:cBhvr>
                                        <p:cTn id="20" dur="2000" fill="hold"/>
                                        <p:tgtEl>
                                          <p:spTgt spid="1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22" dur="2000" fill="hold"/>
                                        <p:tgtEl>
                                          <p:spTgt spid="1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Añadimos las terminaciones (</a:t>
            </a:r>
            <a:r>
              <a:rPr b="0" i="1" lang="es-ES_tradnl" sz="3800" spc="-1" strike="noStrike">
                <a:solidFill>
                  <a:srgbClr val="006633"/>
                </a:solidFill>
                <a:latin typeface="Garamond"/>
              </a:rPr>
              <a:t>endings</a:t>
            </a: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) a cada conjugación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2411280" y="2133720"/>
            <a:ext cx="1656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M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É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651640" y="2060640"/>
            <a:ext cx="1944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Á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6"/>
          <p:cNvSpPr/>
          <p:nvPr/>
        </p:nvSpPr>
        <p:spPr>
          <a:xfrm>
            <a:off x="2411280" y="1557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BOS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7"/>
          <p:cNvSpPr/>
          <p:nvPr/>
        </p:nvSpPr>
        <p:spPr>
          <a:xfrm>
            <a:off x="5580000" y="148428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BOS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8"/>
          <p:cNvSpPr/>
          <p:nvPr/>
        </p:nvSpPr>
        <p:spPr>
          <a:xfrm>
            <a:off x="5724360" y="5805360"/>
            <a:ext cx="2664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Garamond"/>
              </a:rPr>
              <a:t>Ejemplo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MAR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TENER: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   DECI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(Que yo)   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am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e    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ten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a    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di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(que tú)     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am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ten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di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(que él)      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am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e           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ten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di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(que nosotros)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am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emo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ten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amos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di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a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(que vosotros)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am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éis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ten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ái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di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á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(que ellos)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am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ten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an      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di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an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 Box 4"/>
          <p:cNvSpPr/>
          <p:nvPr/>
        </p:nvSpPr>
        <p:spPr>
          <a:xfrm>
            <a:off x="539640" y="4508640"/>
            <a:ext cx="8352000" cy="169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Practica las conjugaciones de verbos regulares con este enlace de la 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Century Gothic"/>
                <a:hlinkClick r:id="rId2"/>
              </a:rPr>
              <a:t>http://www.spaleon.com/sub_pres.php?ids=3,6,9,11,18,24,53,42,46,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Andy"/>
              </a:rPr>
              <a:t>Algunos verbos necesitan tener ciertos cambios ortográficos (de </a:t>
            </a:r>
            <a:r>
              <a:rPr b="1" i="1" lang="es-ES_tradnl" sz="3200" spc="-1" strike="noStrike">
                <a:solidFill>
                  <a:srgbClr val="006633"/>
                </a:solidFill>
                <a:latin typeface="Andy"/>
              </a:rPr>
              <a:t>spelling</a:t>
            </a:r>
            <a:r>
              <a:rPr b="1" lang="es-ES_tradnl" sz="3200" spc="-1" strike="noStrike">
                <a:solidFill>
                  <a:srgbClr val="006633"/>
                </a:solidFill>
                <a:latin typeface="Andy"/>
              </a:rPr>
              <a:t>):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os verbos que terminan en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 Narrow"/>
              </a:rPr>
              <a:t>GAR 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(jugar, negar, cargar, llegar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os verbos que terminan en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 Narrow"/>
              </a:rPr>
              <a:t>CAR 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(tocar, colocar, arrancar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os verbos que terminan en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 Narrow"/>
              </a:rPr>
              <a:t>ZAR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 (cazar, alcanzar, rezar, etc.)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5"/>
          <p:cNvSpPr/>
          <p:nvPr/>
        </p:nvSpPr>
        <p:spPr>
          <a:xfrm>
            <a:off x="826920" y="41497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b812f"/>
                </a:solidFill>
                <a:latin typeface="Arial Narrow"/>
              </a:rPr>
              <a:t>Para conservar el sonido original del verbo en infinitivo, hacemos los cambios fonético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"/>
          <p:cNvSpPr/>
          <p:nvPr/>
        </p:nvSpPr>
        <p:spPr>
          <a:xfrm>
            <a:off x="5003640" y="5373720"/>
            <a:ext cx="266400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Diagram 5"/>
          <p:cNvGrpSpPr/>
          <p:nvPr/>
        </p:nvGrpSpPr>
        <p:grpSpPr>
          <a:xfrm>
            <a:off x="1402200" y="1157040"/>
            <a:ext cx="5256720" cy="5246640"/>
            <a:chOff x="1402200" y="1157040"/>
            <a:chExt cx="5256720" cy="5246640"/>
          </a:xfrm>
        </p:grpSpPr>
        <p:sp>
          <p:nvSpPr>
            <p:cNvPr id="1192" name="_s1028"/>
            <p:cNvSpPr/>
            <p:nvPr/>
          </p:nvSpPr>
          <p:spPr>
            <a:xfrm>
              <a:off x="2101680" y="1864800"/>
              <a:ext cx="3857760" cy="383112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_s1029"/>
            <p:cNvSpPr/>
            <p:nvPr/>
          </p:nvSpPr>
          <p:spPr>
            <a:xfrm rot="7200000">
              <a:off x="2115000" y="1851480"/>
              <a:ext cx="3831120" cy="38577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_s1030"/>
            <p:cNvSpPr/>
            <p:nvPr/>
          </p:nvSpPr>
          <p:spPr>
            <a:xfrm rot="14400000">
              <a:off x="2114640" y="1851120"/>
              <a:ext cx="3831120" cy="38577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_s1031"/>
            <p:cNvSpPr/>
            <p:nvPr/>
          </p:nvSpPr>
          <p:spPr>
            <a:xfrm>
              <a:off x="4833720" y="2397960"/>
              <a:ext cx="1176480" cy="11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Presente de subjuntiv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Que yo jue</a:t>
              </a:r>
              <a:r>
                <a:rPr b="0" lang="es-ES_tradnl" sz="1800" spc="-1" strike="noStrike">
                  <a:solidFill>
                    <a:srgbClr val="cc0000"/>
                  </a:solidFill>
                  <a:latin typeface="Arial Narrow"/>
                </a:rPr>
                <a:t>g</a:t>
              </a:r>
              <a:r>
                <a:rPr b="1" i="1" lang="es-ES_tradnl" sz="1800" spc="-1" strike="noStrike">
                  <a:solidFill>
                    <a:srgbClr val="cc0000"/>
                  </a:solidFill>
                  <a:latin typeface="Arial Narrow"/>
                </a:rPr>
                <a:t>e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Arial Narrow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el sonido 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cambiaría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entonces…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_s1032"/>
            <p:cNvSpPr/>
            <p:nvPr/>
          </p:nvSpPr>
          <p:spPr>
            <a:xfrm>
              <a:off x="3444840" y="4792680"/>
              <a:ext cx="1176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Que yo jue</a:t>
              </a:r>
              <a:r>
                <a:rPr b="0" lang="es-ES_tradnl" sz="1800" spc="-1" strike="noStrike">
                  <a:solidFill>
                    <a:srgbClr val="cc0000"/>
                  </a:solidFill>
                  <a:latin typeface="Arial Narrow"/>
                </a:rPr>
                <a:t>g</a:t>
              </a:r>
              <a:r>
                <a:rPr b="1" i="1" lang="es-ES_tradnl" sz="1800" spc="-1" strike="noStrike">
                  <a:solidFill>
                    <a:srgbClr val="cc0000"/>
                  </a:solidFill>
                  <a:latin typeface="Arial Narrow"/>
                </a:rPr>
                <a:t>U</a:t>
              </a:r>
              <a:r>
                <a:rPr b="0" lang="es-ES_tradnl" sz="1800" spc="-1" strike="noStrike">
                  <a:solidFill>
                    <a:srgbClr val="cc0000"/>
                  </a:solidFill>
                  <a:latin typeface="Arial Narrow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el sonido 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¡se conserva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_s1033"/>
            <p:cNvSpPr/>
            <p:nvPr/>
          </p:nvSpPr>
          <p:spPr>
            <a:xfrm>
              <a:off x="2050920" y="2399400"/>
              <a:ext cx="117648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Yo jue</a:t>
              </a:r>
              <a:r>
                <a:rPr b="1" i="1" lang="es-ES_tradnl" sz="1800" spc="-1" strike="noStrike">
                  <a:solidFill>
                    <a:srgbClr val="cc0000"/>
                  </a:solidFill>
                  <a:latin typeface="Arial"/>
                </a:rPr>
                <a:t>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(presente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dicativ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Line 13"/>
          <p:cNvSpPr/>
          <p:nvPr/>
        </p:nvSpPr>
        <p:spPr>
          <a:xfrm flipV="1">
            <a:off x="3492360" y="2349000"/>
            <a:ext cx="648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15"/>
          <p:cNvSpPr/>
          <p:nvPr/>
        </p:nvSpPr>
        <p:spPr>
          <a:xfrm flipH="1">
            <a:off x="5364000" y="4221000"/>
            <a:ext cx="14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18"/>
          <p:cNvSpPr/>
          <p:nvPr/>
        </p:nvSpPr>
        <p:spPr>
          <a:xfrm>
            <a:off x="971640" y="620640"/>
            <a:ext cx="2305080" cy="642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  CON JU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1" name="Picture 19" descr="j0310430[1]"/>
          <p:cNvPicPr/>
          <p:nvPr/>
        </p:nvPicPr>
        <p:blipFill>
          <a:blip r:embed="rId1"/>
          <a:stretch/>
        </p:blipFill>
        <p:spPr>
          <a:xfrm>
            <a:off x="3132000" y="2924280"/>
            <a:ext cx="180972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animMotion origin="layout" path="M -0.00086 -0.0067 C -0.05503 -0.01457 -0.14323 0.11145 -0.19062 0.10821 C -0.23802 0.10497 -0.27396 0.02613 -0.28489 -0.02589 C -0.29583 -0.07815 -0.27777 -0.15352 -0.25642 -0.20347 C -0.23507 -0.25341 -0.20607 -0.29387 -0.15729 -0.32509 C -0.1085 -0.3563 -0.02586 -0.39191 0.03629 -0.39075 C 0.09844 -0.38959 0.17118 -0.35121 0.21563 -0.31884 C 0.26007 -0.28647 0.28316 -0.24393 0.30295 -0.19607 C 0.32275 -0.14821 0.33768 -0.08347 0.33473 -0.03121 C 0.33177 0.02104 0.30521 0.07931 0.2849 0.11792 C 0.26459 0.15653 0.23768 0.19491 0.2125 0.20116 C 0.18733 0.2074 0.16962 0.19075 0.13403 0.15584 C 0.09844 0.12139 0.0533 0.00486 -0.00086 -0.0067 Z">
                                      <p:cBhvr>
                                        <p:cTn id="28" dur="5000" fill="hold"/>
                                        <p:tgtEl>
                                          <p:spTgt spid="1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Text Box 4"/>
          <p:cNvSpPr/>
          <p:nvPr/>
        </p:nvSpPr>
        <p:spPr>
          <a:xfrm>
            <a:off x="900000" y="2349360"/>
            <a:ext cx="7201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R: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que yo lle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ue,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tu lle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, que él lle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que nosotros lle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s, que vosotros lle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ué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s, que ellos lle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R: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que yo to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que tú to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, que él to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que nosotros to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s, que vosotros to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qué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s, que ellos to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ZAR: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que yo alca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que tú alcan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, que él alcan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que nosotros alcan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s, que vosotros alcan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é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s, que ellos alcan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3" name="Picture 6" descr="j0293454"/>
          <p:cNvPicPr/>
          <p:nvPr/>
        </p:nvPicPr>
        <p:blipFill>
          <a:blip r:embed="rId1"/>
          <a:stretch/>
        </p:blipFill>
        <p:spPr>
          <a:xfrm>
            <a:off x="3348000" y="836640"/>
            <a:ext cx="17604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12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Text Box 4"/>
          <p:cNvSpPr/>
          <p:nvPr/>
        </p:nvSpPr>
        <p:spPr>
          <a:xfrm>
            <a:off x="1187280" y="1197000"/>
            <a:ext cx="6913800" cy="6732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ndy"/>
              </a:rPr>
              <a:t>¡ATENCIÓN ESPECIAL CON LOS VERBOS CUYA CONJUGACIÓN EN </a:t>
            </a:r>
            <a:r>
              <a:rPr b="1" i="1" lang="es-ES_tradnl" sz="2000" spc="-1" strike="noStrike">
                <a:solidFill>
                  <a:srgbClr val="000000"/>
                </a:solidFill>
                <a:latin typeface="Andy"/>
              </a:rPr>
              <a:t>YO</a:t>
            </a:r>
            <a:r>
              <a:rPr b="0" lang="es-ES_tradnl" sz="1800" spc="-1" strike="noStrike">
                <a:solidFill>
                  <a:srgbClr val="000000"/>
                </a:solidFill>
                <a:latin typeface="Andy"/>
              </a:rPr>
              <a:t> ES </a:t>
            </a:r>
            <a:r>
              <a:rPr b="1" i="1" lang="es-ES_tradnl" sz="1800" spc="-1" strike="noStrike">
                <a:solidFill>
                  <a:srgbClr val="000000"/>
                </a:solidFill>
                <a:latin typeface="Andy"/>
              </a:rPr>
              <a:t>IRREGULAR</a:t>
            </a:r>
            <a:r>
              <a:rPr b="0" lang="es-ES_tradnl" sz="1800" spc="-1" strike="noStrike">
                <a:solidFill>
                  <a:srgbClr val="000000"/>
                </a:solidFill>
                <a:latin typeface="Andy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5"/>
          <p:cNvSpPr/>
          <p:nvPr/>
        </p:nvSpPr>
        <p:spPr>
          <a:xfrm>
            <a:off x="1835280" y="2276640"/>
            <a:ext cx="3024000" cy="45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ABER: que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AER: cai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NOCER: conoz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CIR: di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ACER: h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NER: po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ALIR: sal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NER: te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RAER: trai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ER: val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6"/>
          <p:cNvSpPr/>
          <p:nvPr/>
        </p:nvSpPr>
        <p:spPr>
          <a:xfrm>
            <a:off x="826920" y="5950080"/>
            <a:ext cx="7993080" cy="64260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ndy"/>
              </a:rPr>
              <a:t>Quep, caig, conozc, dig, hag, pong, etc. VAN A SER LA RAÌZ PARA EL SUBJUN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7"/>
          <p:cNvSpPr/>
          <p:nvPr/>
        </p:nvSpPr>
        <p:spPr>
          <a:xfrm>
            <a:off x="5148360" y="2637000"/>
            <a:ext cx="25923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odos los verbos que terminan en UCIR (traducir, conducir, etc.) que cambian an UZ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Picture 9" descr="attention"/>
          <p:cNvPicPr/>
          <p:nvPr/>
        </p:nvPicPr>
        <p:blipFill>
          <a:blip r:embed="rId1"/>
          <a:stretch/>
        </p:blipFill>
        <p:spPr>
          <a:xfrm>
            <a:off x="395280" y="83664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5000" fill="hold"/>
                                        <p:tgtEl>
                                          <p:spTgt spid="12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3:05:29Z</dcterms:created>
  <dc:creator>irma valeriano</dc:creator>
  <dc:description/>
  <dc:language>en-US</dc:language>
  <cp:lastModifiedBy>Susana</cp:lastModifiedBy>
  <dcterms:modified xsi:type="dcterms:W3CDTF">2012-05-08T08:28:46Z</dcterms:modified>
  <cp:revision>37</cp:revision>
  <dc:subject/>
  <dc:title>SUBJUNTIVO (presente)</dc:title>
</cp:coreProperties>
</file>